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4FAD-2CD9-45AB-A600-2F7E455E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632B-A84F-4DD8-800D-2906DDC9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8130-3456-4827-82EE-471DFCF3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2C2B-D2DE-4A15-BFDB-BF1EB17B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E5C-E741-44B1-8D75-ABC3B954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1A9-1B21-4ADF-95EB-4A46333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23B1-3B82-4BC2-8341-09E8DA3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97DE-0120-42D5-A4BF-D6561F1C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FE2-A5CB-434D-9ED4-3697750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1148-5FC1-4FF6-8AA2-7BB98C5C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1FA-A867-49A2-9D09-2D88E43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B18-62EA-47C8-B097-5C1566F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D63-94F6-4E9F-9441-62FABDB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3D7-A717-4B0D-AC87-04188A0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113-F965-4388-BD8E-F76146E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5BA-1549-4DB7-965F-5A2784EA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843D-2F01-4D6F-9ACD-5BF2B210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3AD2-3E28-4FCF-8771-7BC7BE7F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196B-B24A-4355-A74E-CDFFDC8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4879-1248-4DC0-9023-6D5CBF9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3809-DAE4-43E7-A8E2-E119F6E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0C17-FE58-4D6C-87FD-E416C47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C971-E3D1-4B8B-BBBC-C414666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00BA-910B-4EC7-A153-4F33916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FCA-C1F3-43DB-BCB7-73D6E81AA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C43-30D0-45B6-977B-C2C3B37AC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nception_(biology)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3-12_DevFetusPhoto_1"/>
          <p:cNvPicPr/>
          <p:nvPr/>
        </p:nvPicPr>
        <p:blipFill>
          <a:blip r:embed="rId1"/>
          <a:srcRect l="0" t="18824" r="50913" b="18824"/>
          <a:stretch/>
        </p:blipFill>
        <p:spPr>
          <a:xfrm>
            <a:off x="304920" y="2286000"/>
            <a:ext cx="3903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stocyst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stinct type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ner cell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ms th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ayer of cells surrounding the cavity which helps form the plac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s for about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a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bout day 6 post 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oblast erodes uterin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1 week to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ner cell mass of a single blastocyst divides:  monozygotic (identical) t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03-03_Fertlization_3"/>
          <p:cNvPicPr/>
          <p:nvPr/>
        </p:nvPicPr>
        <p:blipFill>
          <a:blip r:embed="rId1"/>
          <a:srcRect l="73640" t="7059" r="5455" b="74122"/>
          <a:stretch/>
        </p:blipFill>
        <p:spPr>
          <a:xfrm>
            <a:off x="5562720" y="685800"/>
            <a:ext cx="2379600" cy="1652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328800" y="121932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inner cel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557400" y="182880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troph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3-04_Implantation_1"/>
          <p:cNvPicPr/>
          <p:nvPr/>
        </p:nvPicPr>
        <p:blipFill>
          <a:blip r:embed="rId1"/>
          <a:srcRect l="0" t="18182" r="0" b="0"/>
          <a:stretch/>
        </p:blipFill>
        <p:spPr>
          <a:xfrm>
            <a:off x="3772080" y="685800"/>
            <a:ext cx="5829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cell mass divides into epiblast and hypo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luid filled s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mniotic s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epi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lk sac from hyp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mina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bryonic di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gives rise to the whole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stocyst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stinct type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ner cell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ms th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ayer of cells surrounding the cavity which helps form the plac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s for about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a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bout day 6 post 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hoblast erodes uterin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1 week to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ner cell mass of a single blastocyst divides:  monozygotic (identical) t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3-03_Fertlization_3"/>
          <p:cNvPicPr/>
          <p:nvPr/>
        </p:nvPicPr>
        <p:blipFill>
          <a:blip r:embed="rId1"/>
          <a:srcRect l="73640" t="7059" r="5455" b="74122"/>
          <a:stretch/>
        </p:blipFill>
        <p:spPr>
          <a:xfrm>
            <a:off x="5562720" y="685800"/>
            <a:ext cx="2379600" cy="1652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6328800" y="121932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inner cel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557400" y="182880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troph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minar to trilaminar d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mary “germ” layers:  all body tissues develop from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03-05eh_PrimitveStrk _1"/>
          <p:cNvPicPr/>
          <p:nvPr/>
        </p:nvPicPr>
        <p:blipFill>
          <a:blip r:embed="rId1"/>
          <a:srcRect l="0" t="9091" r="0" b="8182"/>
          <a:stretch/>
        </p:blipFill>
        <p:spPr>
          <a:xfrm>
            <a:off x="4829040" y="0"/>
            <a:ext cx="4314960" cy="427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03-05ae_PrimitveStrk_1"/>
          <p:cNvPicPr/>
          <p:nvPr/>
        </p:nvPicPr>
        <p:blipFill>
          <a:blip r:embed="rId2"/>
          <a:srcRect l="4545" t="0" r="0" b="5882"/>
          <a:stretch/>
        </p:blipFill>
        <p:spPr>
          <a:xfrm>
            <a:off x="0" y="0"/>
            <a:ext cx="4903920" cy="3736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290160" y="651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3-05eh_PrimitveStrk _1"/>
          <p:cNvPicPr/>
          <p:nvPr/>
        </p:nvPicPr>
        <p:blipFill>
          <a:blip r:embed="rId1"/>
          <a:srcRect l="0" t="9091" r="0" b="8182"/>
          <a:stretch/>
        </p:blipFill>
        <p:spPr>
          <a:xfrm>
            <a:off x="3726000" y="1012680"/>
            <a:ext cx="5494320" cy="5437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ion of the 3 “germ” 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streak (groove) on dorsal surface of epi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trulation:  invagination of epiblas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s 14-15: they replace hypoblast becom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6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mesod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new third layer)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blast cells remaining on surface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ree “germ”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” as in germinate, not g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pecialization 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ecur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toderm and endoderm are epithelial tissue (form sheets of tiss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oderm is a mesenchym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enchyme cells are star shaped and do not attach to one another, therefore migrat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03-06_Mesdrm-Notchrd_1"/>
          <p:cNvPicPr/>
          <p:nvPr/>
        </p:nvPicPr>
        <p:blipFill>
          <a:blip r:embed="rId1"/>
          <a:srcRect l="0" t="6364" r="0" b="3636"/>
          <a:stretch/>
        </p:blipFill>
        <p:spPr>
          <a:xfrm>
            <a:off x="3781440" y="457200"/>
            <a:ext cx="5438880" cy="6335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och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16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node epiblast cells invaginate and migrate anteriorly with some endoder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defining the body axis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site of the vertebral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03-07ab_Neurulatn_1"/>
          <p:cNvPicPr/>
          <p:nvPr/>
        </p:nvPicPr>
        <p:blipFill>
          <a:blip r:embed="rId1"/>
          <a:srcRect l="0" t="12941" r="0" b="47059"/>
          <a:stretch/>
        </p:blipFill>
        <p:spPr>
          <a:xfrm>
            <a:off x="387360" y="3581280"/>
            <a:ext cx="8756640" cy="2706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ochord signals overlying 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begins of spinal cord and brain (neur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plate to neural groove to neural tube:  pinched off in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03-07cd_Neurulatn_1"/>
          <p:cNvPicPr/>
          <p:nvPr/>
        </p:nvPicPr>
        <p:blipFill>
          <a:blip r:embed="rId1"/>
          <a:srcRect l="2727" t="54122" r="2727" b="7059"/>
          <a:stretch/>
        </p:blipFill>
        <p:spPr>
          <a:xfrm>
            <a:off x="228600" y="914400"/>
            <a:ext cx="8839080" cy="2805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000320"/>
            <a:ext cx="83818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 of neural tube: begins at end of week 3; complete by end of week 4 (folic acid important for this st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ranially (eventually brain) and caudally (spinal 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crest, lateral ectodermal cells, pulled along and form sensory nerve cells and other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oderm begins to differen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o notochord, week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ranially and caudally (from head to tail or crown to 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mesoderm into thre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ites: 40 pairs of body segments (repeating units, like building blocks) by end 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mesoderm:  just lateral to so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plate: splits to form coelom (“cavit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03-07cd_Neurulatn_1"/>
          <p:cNvPicPr/>
          <p:nvPr/>
        </p:nvPicPr>
        <p:blipFill>
          <a:blip r:embed="rId1"/>
          <a:srcRect l="0" t="10588" r="0" b="48235"/>
          <a:stretch/>
        </p:blipFill>
        <p:spPr>
          <a:xfrm>
            <a:off x="76320" y="76320"/>
            <a:ext cx="9077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the study of the origin and development of an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period:  before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weeks from conception to birth (average) “fetal”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necologic timing has been from LMP therefore refers to 40 weeks “gestational”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conception has been difficult to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P is on average two weeks before ov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s of the mesodermal lateral 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mesoderm:  apposed to the ectod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nchnic mesoderm:  apposed to the endod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lom in between will become the serous cavities of the ventral body ca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to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ar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03-08ab_EmbrWeek4_1"/>
          <p:cNvPicPr/>
          <p:nvPr/>
        </p:nvPicPr>
        <p:blipFill>
          <a:blip r:embed="rId1"/>
          <a:srcRect l="0" t="8182" r="0" b="10000"/>
          <a:stretch/>
        </p:blipFill>
        <p:spPr>
          <a:xfrm>
            <a:off x="2462040" y="23760"/>
            <a:ext cx="6453360" cy="6834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990000" y="99072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wee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74880" y="2743200"/>
            <a:ext cx="182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in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 embry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is t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ryo is s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la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3-08cd_EmbrWeek4_1"/>
          <p:cNvPicPr/>
          <p:nvPr/>
        </p:nvPicPr>
        <p:blipFill>
          <a:blip r:embed="rId1"/>
          <a:srcRect l="0" t="25455" r="0" b="21818"/>
          <a:stretch/>
        </p:blipFill>
        <p:spPr>
          <a:xfrm>
            <a:off x="76320" y="685800"/>
            <a:ext cx="7467480" cy="5094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010280" y="3809880"/>
            <a:ext cx="152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ry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rudes into amn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3-09ab_GermWeek4_1"/>
          <p:cNvPicPr/>
          <p:nvPr/>
        </p:nvPicPr>
        <p:blipFill>
          <a:blip r:embed="rId1"/>
          <a:srcRect l="0" t="12727" r="0" b="11818"/>
          <a:stretch/>
        </p:blipFill>
        <p:spPr>
          <a:xfrm>
            <a:off x="2095560" y="723960"/>
            <a:ext cx="5829120" cy="5692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38080" y="259092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23, 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837720" y="4952880"/>
            <a:ext cx="20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f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join vent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03-09cd_GermWeek4_1"/>
          <p:cNvPicPr/>
          <p:nvPr/>
        </p:nvPicPr>
        <p:blipFill>
          <a:blip r:embed="rId1"/>
          <a:srcRect l="0" t="13636" r="0" b="13636"/>
          <a:stretch/>
        </p:blipFill>
        <p:spPr>
          <a:xfrm>
            <a:off x="2362320" y="304920"/>
            <a:ext cx="6773760" cy="6377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98560" y="76212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lind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, day 28 (about ½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14400" y="446256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ome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ult (essentially the same as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03-10_FlowEmbryGerm_1"/>
          <p:cNvPicPr/>
          <p:nvPr/>
        </p:nvPicPr>
        <p:blipFill>
          <a:blip r:embed="rId1"/>
          <a:srcRect l="1818" t="10588" r="1818" b="0"/>
          <a:stretch/>
        </p:blipFill>
        <p:spPr>
          <a:xfrm>
            <a:off x="457200" y="954000"/>
            <a:ext cx="8236080" cy="5904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22440" y="380880"/>
            <a:ext cx="58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derivatives of the embryonic germ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 day embry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en the heart starts pumping, about 4 weeks or 1 month, ½ cm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03-11_Embryo-29Days_1"/>
          <p:cNvPicPr/>
          <p:nvPr/>
        </p:nvPicPr>
        <p:blipFill>
          <a:blip r:embed="rId1"/>
          <a:srcRect l="0" t="17647" r="0" b="0"/>
          <a:stretch/>
        </p:blipFill>
        <p:spPr>
          <a:xfrm>
            <a:off x="762120" y="1676520"/>
            <a:ext cx="8043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 3                      month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03-12_DevFetusPhoto_1"/>
          <p:cNvPicPr/>
          <p:nvPr/>
        </p:nvPicPr>
        <p:blipFill>
          <a:blip r:embed="rId1"/>
          <a:srcRect l="0" t="17647" r="0" b="0"/>
          <a:stretch/>
        </p:blipFill>
        <p:spPr>
          <a:xfrm>
            <a:off x="76320" y="1066680"/>
            <a:ext cx="9058320" cy="5764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10560" y="80640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onth fe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956840" y="83808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bout 19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3-01a_Prenatal_1"/>
          <p:cNvPicPr/>
          <p:nvPr/>
        </p:nvPicPr>
        <p:blipFill>
          <a:blip r:embed="rId1"/>
          <a:srcRect l="0" t="0" r="0" b="8235"/>
          <a:stretch/>
        </p:blipFill>
        <p:spPr>
          <a:xfrm>
            <a:off x="0" y="0"/>
            <a:ext cx="8958240" cy="6353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5105520" y="60948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8 weeks, about 2 months, all major organs are in place in at least a rudimentary form; this is why drugs early in pregnancy are so important to avoid – many cause birth defects; baby is a little over 1” long (below 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03-01b_Prenatal_1"/>
          <p:cNvPicPr/>
          <p:nvPr/>
        </p:nvPicPr>
        <p:blipFill>
          <a:blip r:embed="rId1"/>
          <a:srcRect l="0" t="0" r="0" b="5882"/>
          <a:stretch/>
        </p:blipFill>
        <p:spPr>
          <a:xfrm>
            <a:off x="6480" y="0"/>
            <a:ext cx="8756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(artificial)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yonic” period: first 8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jor organ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al” period: remaining 30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 grow larger and become mor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3-01a_Prenatal_1"/>
          <p:cNvPicPr/>
          <p:nvPr/>
        </p:nvPicPr>
        <p:blipFill>
          <a:blip r:embed="rId1"/>
          <a:srcRect l="8182" t="21176" r="8182" b="8235"/>
          <a:stretch/>
        </p:blipFill>
        <p:spPr>
          <a:xfrm>
            <a:off x="152280" y="728640"/>
            <a:ext cx="892836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3-01b_Prenatal_1"/>
          <p:cNvPicPr/>
          <p:nvPr/>
        </p:nvPicPr>
        <p:blipFill>
          <a:blip r:embed="rId1"/>
          <a:srcRect l="0" t="0" r="0" b="5882"/>
          <a:stretch/>
        </p:blipFill>
        <p:spPr>
          <a:xfrm>
            <a:off x="6480" y="0"/>
            <a:ext cx="8756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3-03_Fertlization_1"/>
          <p:cNvPicPr/>
          <p:nvPr/>
        </p:nvPicPr>
        <p:blipFill>
          <a:blip r:embed="rId1"/>
          <a:srcRect l="4545" t="5882" r="4545" b="5882"/>
          <a:stretch/>
        </p:blipFill>
        <p:spPr>
          <a:xfrm>
            <a:off x="990720" y="938160"/>
            <a:ext cx="7313400" cy="5538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521280" y="609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zation to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ulation:  egg released into the peritoneal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s down fallopian tube in which fertiliza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nception in fallopian tube, maternal and paternal genetic material join to form a new human life (zygo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vision occurs with travel down the tube and into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90920" y="594216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Conception (biolog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fertilisation, the fusion of gametes to produce a new organism of the same species (Wikiped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ek 1 post concep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s repeatedly moving down tube toward uterus (cleav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ughter cell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lastom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he solid cluster of 12-16 blastomeres at about 7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 late 60 cell morula enters uterus, taking up fluid becom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lastoc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3-03_Fertlization_1"/>
          <p:cNvPicPr/>
          <p:nvPr/>
        </p:nvPicPr>
        <p:blipFill>
          <a:blip r:embed="rId1"/>
          <a:srcRect l="4545" t="5882" r="4545" b="5882"/>
          <a:stretch/>
        </p:blipFill>
        <p:spPr>
          <a:xfrm>
            <a:off x="838080" y="609480"/>
            <a:ext cx="7761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1:36:45Z</dcterms:created>
  <dc:creator>Kathryn Watson</dc:creator>
  <dc:description/>
  <dc:language>en-US</dc:language>
  <cp:lastModifiedBy>ACC</cp:lastModifiedBy>
  <dcterms:modified xsi:type="dcterms:W3CDTF">2013-09-25T08:07:43Z</dcterms:modified>
  <cp:revision>37</cp:revision>
  <dc:subject/>
  <dc:title>Basic embryology</dc:title>
</cp:coreProperties>
</file>