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8D5-C9BE-4145-A4EE-A3D6B78D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66A-D004-4B4C-901D-E76AF284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929-7B96-41F4-BB5A-7375DEF0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784-E48E-48A1-A4EA-9FD3D85F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D5E1-AE0B-4179-AC94-E01158E6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7FF1-C7EB-4CB9-9A3A-82F0862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467D-D90E-411C-9178-E7CBB237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10A4-33CD-4C23-9640-5039F30A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24E2-2A18-4549-860B-01A7D43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5C2A-2644-426F-B94D-111D41C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E982-C9DF-4821-A949-FD4CB2F7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970-7DC9-4856-8265-D58A306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702-943B-4802-9123-820C9679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5A1B-B646-4D17-BD4F-34FE353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2AB4-912B-4351-AB5B-730FCF28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6746-FAE6-4C72-8FDE-25A79B5A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079F-3284-4109-9971-FB6E5C71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4AD-91E9-4402-A007-5CC9CA9A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0EC-31A6-49E3-AB3B-892EB29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FFC-FA86-4284-9416-B4D3213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977-B077-41F9-8978-766D5369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740-DF36-4732-998F-DBB5302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E7B-9F45-41FA-9B53-D0BE078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302-D2AE-4522-91DC-995DB99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E079A4-6B18-4641-8E83-68CD2D171D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FC4579-98EF-414D-AA4C-EE26FFCD7F0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000640" cy="557172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88005-EE26-46A6-BA3B-082C0385181D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2195640" y="6356520"/>
            <a:ext cx="382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80928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1071720"/>
            <a:ext cx="8214840" cy="1399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2357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 rtl="1">
              <a:lnSpc>
                <a:spcPct val="100000"/>
              </a:lnSpc>
              <a:buNone/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نقوم بتحديد موقع خزن العرض التقديمي ومن ثم اعطاء اسم للعرض في خانة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2643120" y="3786120"/>
            <a:ext cx="6333840" cy="437760"/>
          </a:xfrm>
          <a:prstGeom prst="rect">
            <a:avLst/>
          </a:prstGeom>
          <a:ln w="9525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3000240" y="4143240"/>
            <a:ext cx="5581440" cy="58068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5"/>
          <a:stretch/>
        </p:blipFill>
        <p:spPr>
          <a:xfrm>
            <a:off x="3000240" y="4786200"/>
            <a:ext cx="5638320" cy="49500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428760" y="4857840"/>
            <a:ext cx="2657160" cy="44748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7"/>
          <a:stretch/>
        </p:blipFill>
        <p:spPr>
          <a:xfrm>
            <a:off x="428760" y="5214960"/>
            <a:ext cx="8214840" cy="894960"/>
          </a:xfrm>
          <a:prstGeom prst="rect">
            <a:avLst/>
          </a:prstGeom>
          <a:ln w="9525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DB7BFC-945A-4227-A3F3-61D6F0D1CF44}" type="slidenum">
              <a:rPr b="0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3661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09760" y="428760"/>
            <a:ext cx="6662520" cy="5376600"/>
          </a:xfrm>
          <a:prstGeom prst="rect">
            <a:avLst/>
          </a:prstGeom>
          <a:ln w="9525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A459A2-43D6-491F-9EA4-0B64AF07ABAC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10"/>
          </p:nvPr>
        </p:nvSpPr>
        <p:spPr>
          <a:xfrm>
            <a:off x="2195640" y="6356520"/>
            <a:ext cx="382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500680" cy="195228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71320" y="2286000"/>
            <a:ext cx="8143560" cy="3642840"/>
          </a:xfrm>
          <a:prstGeom prst="rect">
            <a:avLst/>
          </a:prstGeom>
          <a:ln w="9525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DAA885-5E6C-47BE-B326-7260374D1B09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12"/>
          </p:nvPr>
        </p:nvSpPr>
        <p:spPr>
          <a:xfrm>
            <a:off x="2195640" y="6356520"/>
            <a:ext cx="382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42960" y="295200"/>
            <a:ext cx="8000640" cy="5705280"/>
          </a:xfrm>
          <a:prstGeom prst="rect">
            <a:avLst/>
          </a:prstGeom>
          <a:ln w="9525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04AB87-6C7B-40BA-AA5F-982317A17454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14"/>
          </p:nvPr>
        </p:nvSpPr>
        <p:spPr>
          <a:xfrm>
            <a:off x="2627640" y="6356520"/>
            <a:ext cx="3391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71320" y="214200"/>
            <a:ext cx="8143560" cy="136188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14240" y="1714320"/>
            <a:ext cx="7714800" cy="4571640"/>
          </a:xfrm>
          <a:prstGeom prst="rect">
            <a:avLst/>
          </a:prstGeom>
          <a:ln w="9525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126CD-7850-4C0C-BEF4-D95A33D77822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16"/>
          </p:nvPr>
        </p:nvSpPr>
        <p:spPr>
          <a:xfrm>
            <a:off x="1979640" y="6356520"/>
            <a:ext cx="4039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000640" cy="421452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00040" y="4500720"/>
            <a:ext cx="8072280" cy="847440"/>
          </a:xfrm>
          <a:prstGeom prst="rect">
            <a:avLst/>
          </a:prstGeom>
          <a:ln w="9525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D32236-3830-42CC-83DE-C6DD419B4814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18"/>
          </p:nvPr>
        </p:nvSpPr>
        <p:spPr>
          <a:xfrm>
            <a:off x="2267640" y="6356520"/>
            <a:ext cx="3751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3866760"/>
          </a:xfrm>
          <a:prstGeom prst="rect">
            <a:avLst/>
          </a:prstGeom>
          <a:ln w="9525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10525D-2EB7-4BB3-B5DF-3C4D13328B62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33048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71320" y="214200"/>
            <a:ext cx="8072280" cy="86652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071360" y="1000080"/>
            <a:ext cx="7638840" cy="40932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500040" y="1428840"/>
            <a:ext cx="8357760" cy="35208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500040" y="1857240"/>
            <a:ext cx="8357760" cy="137124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5"/>
          <a:stretch/>
        </p:blipFill>
        <p:spPr>
          <a:xfrm>
            <a:off x="2643120" y="3214800"/>
            <a:ext cx="3857400" cy="3071520"/>
          </a:xfrm>
          <a:prstGeom prst="rect">
            <a:avLst/>
          </a:prstGeom>
          <a:ln w="9525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C32D97-1B9E-4902-8F7A-18B9CE8E42E9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22"/>
          </p:nvPr>
        </p:nvSpPr>
        <p:spPr>
          <a:xfrm>
            <a:off x="2500200" y="6356520"/>
            <a:ext cx="3519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126648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8429400" cy="154260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714760" y="3286080"/>
            <a:ext cx="4343040" cy="2785680"/>
          </a:xfrm>
          <a:prstGeom prst="rect">
            <a:avLst/>
          </a:prstGeom>
          <a:ln w="9525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30BE35-D350-4079-BD31-1AAA65295126}" type="slidenum">
              <a:rPr b="1" lang="en-US" sz="14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3661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ar-IQ" sz="14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ar-IQ" sz="1400" spc="-1" strike="noStrike">
                <a:solidFill>
                  <a:srgbClr val="8b8b8b"/>
                </a:solidFill>
                <a:latin typeface="Calibri"/>
              </a:rPr>
              <a:t>حاسبات                           م.نجلاء عبد حمز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  <Words>63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0:05:48Z</dcterms:created>
  <dc:creator>najlaa</dc:creator>
  <dc:description/>
  <dc:language>en-US</dc:language>
  <cp:lastModifiedBy>sp</cp:lastModifiedBy>
  <dcterms:modified xsi:type="dcterms:W3CDTF">2014-02-18T09:46:03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