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E96-6043-4F75-AC8F-B94173CE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92E-ECBF-4646-A4D9-8F97FE40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196-6973-4456-B0AC-80051D8B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A99-E595-4C0D-AB31-09689AE6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E48-A1F7-4328-9EA1-31740E1E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A5B-62E8-4CCC-A74B-DDD7246A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10BF-7336-4505-B018-9DCD08F1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029-40C7-48E0-B55C-5A1F52C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02D9-6D17-4BB5-A86E-32351C2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8C5A-3F1F-47E0-99B7-ACCCEBF2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78C-B98D-4C4A-9D7D-56485E9C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66A-177B-4B0E-B8FF-75E742A1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2CF7-F2D7-488E-B2E9-B9073A8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B547-C810-4163-B919-85FCA6E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90DF-DD09-422B-9AA2-12BEEEFE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85B-76CC-4EE3-A7F8-D9124F56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92DB-51FB-4901-ACCE-46591F44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472-9FFE-45CA-80DC-C97AF3D3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DAE-CE8C-40F4-A270-10A5D22E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347-D302-49DB-BB1C-54A75166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768-259A-4207-86A5-D16C742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F56-B658-4F51-860E-535D2FD2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001-196E-4A63-9C91-4BB4B3A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523-F3BE-46FF-979B-6D6A3B9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733D3C-6C8F-41D2-912A-3CACCEAC48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16E32-0ACC-4CBB-B7CD-A7A32A1AD9D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42960" y="142920"/>
            <a:ext cx="8072280" cy="357156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000840" y="3714840"/>
            <a:ext cx="2571480" cy="2571480"/>
          </a:xfrm>
          <a:prstGeom prst="rect">
            <a:avLst/>
          </a:prstGeom>
          <a:ln w="9525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BDB8D-0DD2-46C9-817D-C5542D0B09FB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1143000" y="6356520"/>
            <a:ext cx="557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8357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7358040" y="3571920"/>
            <a:ext cx="1333080" cy="40932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357120" y="4071960"/>
            <a:ext cx="8357760" cy="128556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072040" y="5429160"/>
            <a:ext cx="3685680" cy="35208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5"/>
          <a:stretch/>
        </p:blipFill>
        <p:spPr>
          <a:xfrm>
            <a:off x="285840" y="428760"/>
            <a:ext cx="8286480" cy="1728360"/>
          </a:xfrm>
          <a:prstGeom prst="rect">
            <a:avLst/>
          </a:prstGeom>
          <a:ln w="9525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48AA9D-742F-47F4-BF0D-E8286DE52831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10"/>
          </p:nvPr>
        </p:nvSpPr>
        <p:spPr>
          <a:xfrm>
            <a:off x="571320" y="6356520"/>
            <a:ext cx="6214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229240" cy="42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عند اختيار الحركة المخصصة على نص او كائن معين فلابد من تحديد خصائص الحركة من لوح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Ani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مثلا بداية الحرك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نقوم بالنقر على ز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واختيار احدى الخيارات: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يقصد بها بدأ الحركة بعد الحركة المخصصة السابقة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يقصد بها بدأ الحركة مع الحركة المخصصة السابقة بنفس الوقت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Cli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يقصد بها عند الضغط بالماوس تبدأ الحركة</a:t>
            </a:r>
            <a:br>
              <a:rPr sz="2400"/>
            </a:b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وغيرها من الخصائص مثلا اتجاه الحرك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والسرع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فلابد من اختيار الخصائص المطلوبة لكل حركة.</a:t>
            </a:r>
            <a:br>
              <a:rPr sz="2400"/>
            </a:b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لتحديد وقت بدأ الحركة ( عند اختيا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نقوم بما يلي: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نقوم بتحديد الحركة المخصصة التي تم تطبيقها والضغط بالزر الايمن للماوس واختيا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الذهاب الى خان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وتحديد الوقت المطلو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9080" y="357120"/>
            <a:ext cx="8519760" cy="62820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1D38E3-C51E-4E06-AEAC-6A3E61E87091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12"/>
          </p:nvPr>
        </p:nvSpPr>
        <p:spPr>
          <a:xfrm>
            <a:off x="1285920" y="6356520"/>
            <a:ext cx="5786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429400" cy="4167000"/>
          </a:xfrm>
          <a:prstGeom prst="rect">
            <a:avLst/>
          </a:prstGeom>
          <a:ln w="9525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88C5FC-35F6-47B1-B444-FEC663A879DB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14"/>
          </p:nvPr>
        </p:nvSpPr>
        <p:spPr>
          <a:xfrm>
            <a:off x="714240" y="6356520"/>
            <a:ext cx="564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214960" y="214200"/>
            <a:ext cx="3066840" cy="414288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57120" y="4429080"/>
            <a:ext cx="8500680" cy="928440"/>
          </a:xfrm>
          <a:prstGeom prst="rect">
            <a:avLst/>
          </a:prstGeom>
          <a:ln w="9525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7AEBD2-B3C4-451A-972E-BFE7771EE85D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6"/>
          </p:nvPr>
        </p:nvSpPr>
        <p:spPr>
          <a:xfrm>
            <a:off x="1000080" y="6356520"/>
            <a:ext cx="564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00680" cy="80928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6643800" y="1285920"/>
            <a:ext cx="1933200" cy="134280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357120" y="2928960"/>
            <a:ext cx="8429400" cy="99972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6072120" y="3786120"/>
            <a:ext cx="2695320" cy="2214360"/>
          </a:xfrm>
          <a:prstGeom prst="rect">
            <a:avLst/>
          </a:prstGeom>
          <a:ln w="9525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5692C9-9C52-4744-993D-9DDF3D280C3B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8"/>
          </p:nvPr>
        </p:nvSpPr>
        <p:spPr>
          <a:xfrm>
            <a:off x="928800" y="6356520"/>
            <a:ext cx="564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214840" cy="242856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357120" y="2928960"/>
            <a:ext cx="8357760" cy="133308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8215200" y="4214880"/>
            <a:ext cx="390240" cy="40932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tretch/>
        </p:blipFill>
        <p:spPr>
          <a:xfrm>
            <a:off x="4714920" y="4286160"/>
            <a:ext cx="3438000" cy="58068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5"/>
          <a:stretch/>
        </p:blipFill>
        <p:spPr>
          <a:xfrm>
            <a:off x="3786120" y="4286160"/>
            <a:ext cx="999720" cy="495000"/>
          </a:xfrm>
          <a:prstGeom prst="rect">
            <a:avLst/>
          </a:prstGeom>
          <a:ln w="9525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6"/>
          <a:stretch/>
        </p:blipFill>
        <p:spPr>
          <a:xfrm>
            <a:off x="428760" y="4643280"/>
            <a:ext cx="8214840" cy="1037880"/>
          </a:xfrm>
          <a:prstGeom prst="rect">
            <a:avLst/>
          </a:prstGeom>
          <a:ln w="9525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FC603F-E48B-4FA7-8F06-83B99ED4D700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20"/>
          </p:nvPr>
        </p:nvSpPr>
        <p:spPr>
          <a:xfrm>
            <a:off x="1000080" y="6356520"/>
            <a:ext cx="6000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785880" y="214200"/>
            <a:ext cx="7953120" cy="133308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572320" cy="78084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3886200" y="3000240"/>
            <a:ext cx="2042640" cy="62352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0" y="3786120"/>
            <a:ext cx="8857800" cy="116172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5"/>
          <a:stretch/>
        </p:blipFill>
        <p:spPr>
          <a:xfrm>
            <a:off x="500040" y="5000760"/>
            <a:ext cx="8286480" cy="818640"/>
          </a:xfrm>
          <a:prstGeom prst="rect">
            <a:avLst/>
          </a:prstGeom>
          <a:ln w="9525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D0DEA8-7903-407B-B44F-F64C4C18F336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22"/>
          </p:nvPr>
        </p:nvSpPr>
        <p:spPr>
          <a:xfrm>
            <a:off x="857160" y="6356520"/>
            <a:ext cx="6286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7760" cy="99972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572240" cy="36428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EB63D1-49C3-4D78-87A4-6F5E87453C9C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24"/>
          </p:nvPr>
        </p:nvSpPr>
        <p:spPr>
          <a:xfrm>
            <a:off x="642960" y="6356520"/>
            <a:ext cx="6143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                  م. 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  <Words>94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3:37:19Z</dcterms:created>
  <dc:creator>najlaa</dc:creator>
  <dc:description/>
  <dc:language>en-US</dc:language>
  <cp:lastModifiedBy>sp</cp:lastModifiedBy>
  <dcterms:modified xsi:type="dcterms:W3CDTF">2014-03-13T07:45:1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