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D4C-35EC-45B7-AD43-F1DAB6B8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363-010B-4F35-AA6D-B30630A0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158A-BD56-4BF3-8003-4F77D253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209-8BCE-4A6F-889D-265EC2EF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B797-070E-4FA2-A845-2FB38BC8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EEBB-552A-4E23-91D8-14BC3F2A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BB08-97D8-4DDE-8E82-FE6F398D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2658-CDA2-4A95-A21E-4B9E5950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1BFE-5DD4-4EC2-9C34-1E9AFB73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D798-ECCE-4ABE-95C3-BDF5C99D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9925-DF78-401C-B693-828B22FC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8DD-796E-4583-BB1D-68E0BAF9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747E-811C-4D78-9526-945C0D98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08DF-AA98-4EF5-AB43-6D2EFABB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4E63-3EE3-4A74-B122-DFF6C34B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8206-27D7-493C-A149-B5F098A0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2602-3D13-4352-90DF-17E6BFBE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0EC63-6352-478A-B5A7-1A9FAE48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EFCBC-0D4B-4072-A0E3-A11BC06E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ECE14-86DC-4040-8B99-2DB18DB5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6C39F-7D65-43D3-878A-304B85E9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EA616-72AD-4320-A601-2814EC5B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9AA-EC49-4BC1-8BBA-62FACA98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59C6F-A616-4DAD-B642-690D7BAF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3CA74-4FD4-4F3B-987B-8E70011B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7DEB2-21FD-4BD1-A352-D05DFC03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0F14B-AF2E-4CA5-A13E-48C9F7C6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F2683-810E-474D-B12A-0659B5D0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A86F2-5C16-4807-A912-B2B5EB36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D5568-05AA-42C6-88C1-9DE38411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2FD-2BAB-4E9D-B3A4-23245B95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EF7-E76A-4A46-8ABC-B1682706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E9F-5268-4630-A6F0-B82F86F7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EEE-21C2-4874-84A7-16FB853E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983-2F6C-4520-B9A7-6BA7DAAC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14CA-14E0-4FCE-884A-1A5F3086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EDA602-51AB-47A7-A648-492640D3F20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845FDA-FE7D-4E82-B35A-E5E5C39D0A0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31486E-6451-4FFC-A8E7-7BFFA767E09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714240" y="214200"/>
            <a:ext cx="7572240" cy="2714400"/>
          </a:xfrm>
          <a:prstGeom prst="rect">
            <a:avLst/>
          </a:prstGeom>
          <a:ln w="9525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3643200" y="3214800"/>
            <a:ext cx="4814640" cy="2685600"/>
          </a:xfrm>
          <a:prstGeom prst="rect">
            <a:avLst/>
          </a:prstGeom>
          <a:ln w="9525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8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4DF0BB-2DDF-4CBF-838B-BEF1365103AA}" type="slidenum">
              <a:rPr b="0" lang="en-US" sz="18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11"/>
          </p:nvPr>
        </p:nvSpPr>
        <p:spPr>
          <a:xfrm>
            <a:off x="1000080" y="6356520"/>
            <a:ext cx="5019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785880" y="285840"/>
            <a:ext cx="7929360" cy="2071440"/>
          </a:xfrm>
          <a:prstGeom prst="rect">
            <a:avLst/>
          </a:prstGeom>
          <a:ln w="9525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82148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ولادراج صورة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sert Pictu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:-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357120" y="3071880"/>
            <a:ext cx="8357760" cy="928440"/>
          </a:xfrm>
          <a:prstGeom prst="rect">
            <a:avLst/>
          </a:prstGeom>
          <a:ln w="9525">
            <a:noFill/>
          </a:ln>
        </p:spPr>
      </p:pic>
      <p:sp>
        <p:nvSpPr>
          <p:cNvPr id="130" name="TextBox 5"/>
          <p:cNvSpPr/>
          <p:nvPr/>
        </p:nvSpPr>
        <p:spPr>
          <a:xfrm>
            <a:off x="500040" y="4071960"/>
            <a:ext cx="8214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على صور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ct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ومن ثم نحدد مكان خزن الصورة واسم الصورة المراد ادراجها ونختار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1E52A0-7587-4E99-8600-70A13800634C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3"/>
          </p:nvPr>
        </p:nvSpPr>
        <p:spPr>
          <a:xfrm>
            <a:off x="1285920" y="6356520"/>
            <a:ext cx="473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71320" y="571320"/>
            <a:ext cx="8072280" cy="4686120"/>
          </a:xfrm>
          <a:prstGeom prst="rect">
            <a:avLst/>
          </a:prstGeom>
          <a:ln w="9525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CDB669-E0D1-4374-96DA-1D07B4F1BCB3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ftr" idx="15"/>
          </p:nvPr>
        </p:nvSpPr>
        <p:spPr>
          <a:xfrm>
            <a:off x="785880" y="6356520"/>
            <a:ext cx="523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00080" y="357120"/>
            <a:ext cx="7372080" cy="149976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8500680" cy="2356920"/>
          </a:xfrm>
          <a:prstGeom prst="rect">
            <a:avLst/>
          </a:prstGeom>
          <a:ln w="9525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3"/>
          <a:stretch/>
        </p:blipFill>
        <p:spPr>
          <a:xfrm>
            <a:off x="5143680" y="4071960"/>
            <a:ext cx="2257200" cy="2071440"/>
          </a:xfrm>
          <a:prstGeom prst="rect">
            <a:avLst/>
          </a:prstGeom>
          <a:ln w="9525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sldNum" idx="1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31A23A-1AF2-4267-BD70-94E179A2A4E2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17"/>
          </p:nvPr>
        </p:nvSpPr>
        <p:spPr>
          <a:xfrm>
            <a:off x="1000080" y="6356520"/>
            <a:ext cx="5019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571320" y="428760"/>
            <a:ext cx="807228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8072280" cy="2571480"/>
          </a:xfrm>
          <a:prstGeom prst="rect">
            <a:avLst/>
          </a:prstGeom>
          <a:ln w="9525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A7EA1C-CA7F-4ACE-848D-106ECE30BA6A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19"/>
          </p:nvPr>
        </p:nvSpPr>
        <p:spPr>
          <a:xfrm>
            <a:off x="357120" y="6356520"/>
            <a:ext cx="5662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214280" y="285840"/>
            <a:ext cx="7572240" cy="207144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857160" y="2714760"/>
            <a:ext cx="8000640" cy="495000"/>
          </a:xfrm>
          <a:prstGeom prst="rect">
            <a:avLst/>
          </a:prstGeom>
          <a:ln w="9525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1000080" y="3357720"/>
            <a:ext cx="7781400" cy="2499840"/>
          </a:xfrm>
          <a:prstGeom prst="rect">
            <a:avLst/>
          </a:prstGeom>
          <a:ln w="9525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sldNum" idx="2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B63898-EDF9-4383-B32B-62DA7CCA9339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ftr" idx="21"/>
          </p:nvPr>
        </p:nvSpPr>
        <p:spPr>
          <a:xfrm>
            <a:off x="642960" y="6356520"/>
            <a:ext cx="53766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71320" y="357120"/>
            <a:ext cx="8214840" cy="3071520"/>
          </a:xfrm>
          <a:prstGeom prst="rect">
            <a:avLst/>
          </a:prstGeom>
          <a:ln w="9525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428760" y="3429000"/>
            <a:ext cx="8500680" cy="2285640"/>
          </a:xfrm>
          <a:prstGeom prst="rect">
            <a:avLst/>
          </a:prstGeom>
          <a:ln w="9525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ldNum" idx="2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7B1C5C-9B14-483E-A9B1-5C5CE73B6228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3"/>
          </p:nvPr>
        </p:nvSpPr>
        <p:spPr>
          <a:xfrm>
            <a:off x="1285920" y="6356520"/>
            <a:ext cx="473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5000760" y="214200"/>
            <a:ext cx="3342960" cy="3928680"/>
          </a:xfrm>
          <a:prstGeom prst="rect">
            <a:avLst/>
          </a:prstGeom>
          <a:ln w="9525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0" y="4429080"/>
            <a:ext cx="8714880" cy="1285560"/>
          </a:xfrm>
          <a:prstGeom prst="rect">
            <a:avLst/>
          </a:prstGeom>
          <a:ln w="9525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2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3520F0-32A3-4757-81BA-A6AB1ECE7D4F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25"/>
          </p:nvPr>
        </p:nvSpPr>
        <p:spPr>
          <a:xfrm>
            <a:off x="1000080" y="6356520"/>
            <a:ext cx="5019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571320" y="214200"/>
            <a:ext cx="8357760" cy="1499760"/>
          </a:xfrm>
          <a:prstGeom prst="rect">
            <a:avLst/>
          </a:prstGeom>
          <a:ln w="9525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785880" y="2000160"/>
            <a:ext cx="8072280" cy="2214360"/>
          </a:xfrm>
          <a:prstGeom prst="rect">
            <a:avLst/>
          </a:prstGeom>
          <a:ln w="9525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5143680" y="4286160"/>
            <a:ext cx="3800160" cy="333000"/>
          </a:xfrm>
          <a:prstGeom prst="rect">
            <a:avLst/>
          </a:prstGeom>
          <a:ln w="9525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sldNum" idx="2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F274CB-641E-48C2-82A3-E9D8FDD0E21E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27"/>
          </p:nvPr>
        </p:nvSpPr>
        <p:spPr>
          <a:xfrm>
            <a:off x="928800" y="6356520"/>
            <a:ext cx="5090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  <Words>61</Words>
  <Paragraphs>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02:49:48Z</dcterms:created>
  <dc:creator>najlaa</dc:creator>
  <dc:description/>
  <dc:language>en-US</dc:language>
  <cp:lastModifiedBy>najlaa</cp:lastModifiedBy>
  <dcterms:modified xsi:type="dcterms:W3CDTF">2014-03-25T03:49:28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9</vt:r8>
  </property>
</Properties>
</file>