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F5E-DFB3-4685-BE7C-E0033B0A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028-5A27-4DE0-B02E-61325DE1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2FF-7D27-4EB0-B415-5660B3DA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174-DAE9-4025-9245-3E5C7518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EC0-2C74-44AD-9FE8-28C9D1F1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C389-114E-44E9-BF7F-447308A6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2618-36AF-41B1-A6F0-DC8044ED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277D-6306-4F9E-8513-AFE25477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B2FD-55C5-4545-A2BB-56714A0C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FF38-36D7-4559-B6AA-88336F85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F8FB-89E0-4BCE-993B-F55A674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8AF-4058-4142-8E06-691DAC3D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F9E6-CC89-4046-9FF9-717DBA16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7D2B-9D7B-4CAC-9769-92649B0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F5DA-356E-4E32-8FDF-9A773149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FDC0-074E-4AA7-9939-AA08BA16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FCF5-6ADB-4BEF-B612-6A1CD91F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82E-AC3F-496F-AE41-41545045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491-8A78-4C46-9203-671F1B33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47C-8D20-4271-8D84-CA4045FD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261-4359-401E-8368-087C2ED0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297-DF4E-4F8D-B8BB-7D56C1D8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EB6-5374-42C7-B145-EA51CA82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A6E-665B-4829-9DF9-996E8E01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A724DB-227D-49F3-9651-F34C0843144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4F7111-7188-4F59-A08B-7F95172AE0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143560" cy="3071520"/>
          </a:xfrm>
          <a:prstGeom prst="rect">
            <a:avLst/>
          </a:prstGeom>
          <a:ln w="9525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000080" y="3286080"/>
            <a:ext cx="7214760" cy="2785680"/>
          </a:xfrm>
          <a:prstGeom prst="rect">
            <a:avLst/>
          </a:prstGeom>
          <a:ln w="9525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D9F9B6-B53B-422B-8FE7-BF8C57A947FA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2071800" y="6286680"/>
            <a:ext cx="4662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357760" cy="20570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3571920" y="2286000"/>
            <a:ext cx="1952280" cy="2214360"/>
          </a:xfrm>
          <a:prstGeom prst="rect">
            <a:avLst/>
          </a:prstGeom>
          <a:ln w="9525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0" y="4572000"/>
            <a:ext cx="8714880" cy="809280"/>
          </a:xfrm>
          <a:prstGeom prst="rect">
            <a:avLst/>
          </a:prstGeom>
          <a:ln w="9525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782663-444E-46E1-BEE8-133B5FD10BB9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26"/>
          </p:nvPr>
        </p:nvSpPr>
        <p:spPr>
          <a:xfrm>
            <a:off x="1285920" y="6356520"/>
            <a:ext cx="4733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14240" y="571320"/>
            <a:ext cx="8000640" cy="5357520"/>
          </a:xfrm>
          <a:prstGeom prst="rect">
            <a:avLst/>
          </a:prstGeom>
          <a:ln w="9525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ldNum" idx="9"/>
          </p:nvPr>
        </p:nvSpPr>
        <p:spPr>
          <a:xfrm>
            <a:off x="6786720" y="62866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FDA64F-E060-4C5C-8450-0519C58082A8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10"/>
          </p:nvPr>
        </p:nvSpPr>
        <p:spPr>
          <a:xfrm>
            <a:off x="1143000" y="6356520"/>
            <a:ext cx="5357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0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ar-IQ" sz="3200" spc="-1" strike="noStrike">
                <a:solidFill>
                  <a:srgbClr val="000000"/>
                </a:solidFill>
                <a:latin typeface="Calibri"/>
              </a:rPr>
              <a:t>لجعل صورة  مخزونة في منطقة خزن معينة في الحاسبة كخلفية للشرائح نقوم بما يلي: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نحدد الشريحة المطلوب ادراج الصورة لها كخلفية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نذهب الى تصميم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ننتقل الى مجموعة الخلفيا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نختار انماط الخلفيات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Sty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ننتقل الى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 Backgroun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نقوم بأختيار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 or texture f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كما مبين في الشكل التالي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23FD02-F773-495D-9B78-06FF50F182D2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12"/>
          </p:nvPr>
        </p:nvSpPr>
        <p:spPr>
          <a:xfrm>
            <a:off x="1071360" y="6356520"/>
            <a:ext cx="4947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071800" y="571320"/>
            <a:ext cx="4928760" cy="4995360"/>
          </a:xfrm>
          <a:prstGeom prst="rect">
            <a:avLst/>
          </a:prstGeom>
          <a:ln w="9525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F496E4-4AAB-4723-9ABE-FEA30ABC9677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14"/>
          </p:nvPr>
        </p:nvSpPr>
        <p:spPr>
          <a:xfrm>
            <a:off x="1071360" y="6356520"/>
            <a:ext cx="4947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r" rtl="1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نقوم بأختيار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Fi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من شاشة تنسيق الخلفيات. ومن ثم نحدد مكان خزن الصورة واسم الصورة ونختار ادراج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كما مبين بالشكل التالي:-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357200" y="2000160"/>
            <a:ext cx="6495840" cy="3857400"/>
          </a:xfrm>
          <a:prstGeom prst="rect">
            <a:avLst/>
          </a:prstGeom>
          <a:ln w="9525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20EB30-2B12-4053-B924-F7CD1EC75EA7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16"/>
          </p:nvPr>
        </p:nvSpPr>
        <p:spPr>
          <a:xfrm>
            <a:off x="928800" y="6356520"/>
            <a:ext cx="5090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072280" cy="4271760"/>
          </a:xfrm>
          <a:prstGeom prst="rect">
            <a:avLst/>
          </a:prstGeom>
          <a:ln w="9525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FD7A88-559D-4B77-8860-AB5720DEEC16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18"/>
          </p:nvPr>
        </p:nvSpPr>
        <p:spPr>
          <a:xfrm>
            <a:off x="1214280" y="6356520"/>
            <a:ext cx="4804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305560" cy="570528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30D56A-5969-4BB5-A5CA-268AB0271052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ftr" idx="20"/>
          </p:nvPr>
        </p:nvSpPr>
        <p:spPr>
          <a:xfrm>
            <a:off x="1143000" y="6356520"/>
            <a:ext cx="4876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00680" cy="5285880"/>
          </a:xfrm>
          <a:prstGeom prst="rect">
            <a:avLst/>
          </a:prstGeom>
          <a:ln w="9525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3F4070-60AD-480E-8C83-F46A02659D5F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22"/>
          </p:nvPr>
        </p:nvSpPr>
        <p:spPr>
          <a:xfrm>
            <a:off x="1143000" y="6356520"/>
            <a:ext cx="4876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149976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571920" y="2286000"/>
            <a:ext cx="1952280" cy="4066920"/>
          </a:xfrm>
          <a:prstGeom prst="rect">
            <a:avLst/>
          </a:prstGeom>
          <a:ln w="9525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839FF8-3E8F-4439-AF8E-9826B9692A33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ftr" idx="24"/>
          </p:nvPr>
        </p:nvSpPr>
        <p:spPr>
          <a:xfrm>
            <a:off x="857160" y="6356520"/>
            <a:ext cx="5162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      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  <Words>92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3:43:04Z</dcterms:created>
  <dc:creator>najlaa</dc:creator>
  <dc:description/>
  <dc:language>en-US</dc:language>
  <cp:lastModifiedBy>najlaa</cp:lastModifiedBy>
  <dcterms:modified xsi:type="dcterms:W3CDTF">2014-03-04T05:19:28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